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02320"/>
            <a:ext cx="9144000" cy="35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98880" y="657828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    </a:t>
            </a:r>
            <a:fld id="{CB5F39A2-59AC-418D-A751-478FB03D793C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105520" y="93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1a 4.5 Developing new medic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507000"/>
            <a:ext cx="9144000" cy="351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68880" y="6591240"/>
            <a:ext cx="3886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    </a:t>
            </a:r>
            <a:fld id="{612E0D10-16B4-44B9-AA1D-DF9EBBFADAC6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93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1a 4.5 Developing new medic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6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a6a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a6a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6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a6a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a6a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a6a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A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Researchers target a disease and develop ideas for treatments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J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When the medicine has passed all the tests set down in law, it will be granted a licence. Now your doctor can use the new medicine to treat your illness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K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Once the medicine is in use, phase 4 trials continue. The medicine will be monitored for as long as patients use it. This makes sure it works and is as safe as possible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B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e search for possible drugs includes the computer design of molecules and screening hundreds of thousands of chemicals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C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Possible drugs are made (synthesised) in the lab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D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22856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In vitro</a:t>
            </a: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 screening</a:t>
            </a:r>
            <a:r>
              <a:rPr b="0" lang="en-US" sz="28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e potential medicines are tested on cell cultures, tissue cultures and isolated whole organs in the lab. Many chemicals fail at this stage because they don’t work or are toxic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E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2080" y="2437920"/>
            <a:ext cx="68198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Animal testing</a:t>
            </a:r>
            <a:r>
              <a:rPr b="0" lang="en-US" sz="28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e small number of chemicals which make it this far are now tested on animals. This finds out more about how they work in a whole living organism. It tells us what dose is needed and sees if they cause any side-effects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F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Animal testing continues, looking at the effect of longer-term use of the medicine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G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Clinical testing on humans begins with phase 1 on a small number of healthy volunteers. This looks at the safety of the medicine in people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H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Human phase 2 trials run with a small number of the patients suffering from the target disease. This is where scientists can really begin to see if the drug will be safe and effective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I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Human phase 3 trials continue with a larger number of patients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6:30:17Z</dcterms:created>
  <dc:creator>Michael Cotter</dc:creator>
  <dc:description/>
  <dc:language>en-US</dc:language>
  <cp:lastModifiedBy>sthalliwellp</cp:lastModifiedBy>
  <cp:lastPrinted>2006-03-12T08:02:04Z</cp:lastPrinted>
  <dcterms:modified xsi:type="dcterms:W3CDTF">2006-10-17T11:02:36Z</dcterms:modified>
  <cp:revision>23</cp:revision>
  <dc:subject/>
  <dc:title>No Slide Title</dc:title>
</cp:coreProperties>
</file>